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D317-2339-4EE9-A9E2-23061FCE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99FD-9180-429B-8EB9-5AF0F629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76BF-E9B5-4519-AD96-8101AD3D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E181-A272-4D54-A4D6-6422077C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FBD5-CF59-42FF-B714-8E94294E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DB6-5D1E-444E-B38C-8FC8F6C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FC21-5860-4256-8ED2-C53D02D2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8D53-DA4E-457F-84DB-279AB15C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3D1-12EB-4B1E-8226-D927FB07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6BCD-92D8-4AB8-967D-2718674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3F3-55B8-4F97-A707-1EF99FD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F143-FF20-446C-AB4F-31821A64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F52-5CD7-4349-9605-0FDAA59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7DE-C35B-4E09-8C4C-E3E3BBF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F9B-E547-4995-997D-4065CA0E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16A4-AC9F-46F4-AF37-3EB3194E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5AE-39CF-49B2-83D4-FBD7CDBA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A297-CD79-4742-A0C3-10ED4CE5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3DE9-5943-4712-8D8B-BA38555E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CF21-724A-4B96-8D1E-B54A30D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B418-C92F-4CCF-B678-96EA5C8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0DB9-6175-4CBC-889F-1A2907C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CA72-8CC6-4D16-B172-4D33834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3461-FD5F-4A1D-8A92-565A40FE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2FE-26CC-4E32-927C-C204CB390B8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677B-56A4-4868-9352-D4635863B8A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50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3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Дали без малко си убе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а се върнеш почти реш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Духа казваш л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га иди си Т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Те повикам 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удобен час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„почти" не се задоволява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днес реши, не се забавя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чуй умилний гл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милостив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без забава 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 поко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917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Скоро часът на благодат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теб ще отлети в вечност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туй реши в тоз час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следвай твоя Бо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цялата си душ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еши сег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3:35Z</dcterms:modified>
  <cp:revision>185</cp:revision>
  <dc:subject/>
  <dc:title>Slide 1</dc:title>
</cp:coreProperties>
</file>